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2EF-181A-4240-9232-A2278A89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470-8A0D-4CA3-AC63-441F94B0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C0C-1608-46F3-90AE-8EB8FBE0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35E-2FBD-4BE1-920C-C8D83B68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575-B400-495C-B13C-A4BE0874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383-D53C-4367-8F53-A66FBC27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94B-65FF-4AAB-A801-0DB59C12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C1E-FEA0-40FA-B138-01C2009E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447-4D8A-4C53-A5A3-75DF503B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75D-6F02-429B-BE37-EABADE2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23-BD19-4A2F-B99F-14BA407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B0C-6725-42C8-89C2-C347037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AA7F-F41A-4B37-8F12-FBAB9FA94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pter 1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 is a CONSTAN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 each temp, the reaction has a unique K that won’t change for that temp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mperature affects rate and 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quilibrium concentrations won’t be the same, only 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quilibrium position is a set of concentrations at equilibriu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an unlimited number equilibrium posi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e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itially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1.000 M    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921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1.000 M   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763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0 M       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157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95480" y="1828800"/>
            <a:ext cx="916200" cy="382320"/>
            <a:chOff x="2895480" y="1828800"/>
            <a:chExt cx="916200" cy="382320"/>
          </a:xfrm>
        </p:grpSpPr>
        <p:sp>
          <p:nvSpPr>
            <p:cNvPr id="114" name=""/>
            <p:cNvSpPr/>
            <p:nvPr/>
          </p:nvSpPr>
          <p:spPr>
            <a:xfrm>
              <a:off x="2895480" y="18288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20574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e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2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0 M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[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399 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0 M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[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1.197 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1.000 M       [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 = 0.203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is the same no matter what the amount of starting materi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95480" y="1828800"/>
            <a:ext cx="916200" cy="382320"/>
            <a:chOff x="2895480" y="1828800"/>
            <a:chExt cx="916200" cy="382320"/>
          </a:xfrm>
        </p:grpSpPr>
        <p:sp>
          <p:nvSpPr>
            <p:cNvPr id="119" name=""/>
            <p:cNvSpPr/>
            <p:nvPr/>
          </p:nvSpPr>
          <p:spPr>
            <a:xfrm>
              <a:off x="2895480" y="18288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5480" y="205740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 and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e reactions are gaseou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= (n/V)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= C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is a concentration in moles/Li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= P/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 and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Kp 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(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O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[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[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95680" y="1676520"/>
            <a:ext cx="916200" cy="382320"/>
            <a:chOff x="4495680" y="1676520"/>
            <a:chExt cx="916200" cy="382320"/>
          </a:xfrm>
        </p:grpSpPr>
        <p:sp>
          <p:nvSpPr>
            <p:cNvPr id="126" name=""/>
            <p:cNvSpPr/>
            <p:nvPr/>
          </p:nvSpPr>
          <p:spPr>
            <a:xfrm>
              <a:off x="4495680" y="167652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1905120"/>
              <a:ext cx="91620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666880" y="3276720"/>
            <a:ext cx="2667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876920"/>
            <a:ext cx="2666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quilibrium and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R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S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K = Kp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= Kp RT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7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1/RT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438280"/>
            <a:ext cx="3962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2578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neral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+ bB           cC + d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R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(R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c+d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(R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T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(c+d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)-(a+b) =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T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+d)-(a+b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moles of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3200" y="1676520"/>
            <a:ext cx="915840" cy="382320"/>
            <a:chOff x="2743200" y="1676520"/>
            <a:chExt cx="915840" cy="382320"/>
          </a:xfrm>
        </p:grpSpPr>
        <p:sp>
          <p:nvSpPr>
            <p:cNvPr id="137" name=""/>
            <p:cNvSpPr/>
            <p:nvPr/>
          </p:nvSpPr>
          <p:spPr>
            <a:xfrm>
              <a:off x="2743200" y="16765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19051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905120" y="2895480"/>
            <a:ext cx="205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895480"/>
            <a:ext cx="35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267080"/>
            <a:ext cx="4114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mogeneous Equilibri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 far every example dealt with reactants and products where all were in the same phas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an use K in terms of either concentration or pressur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eous Equilibri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the reaction involves pure solids or pure liquids the concentration of the solid or the liquid doesn’t chang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, we can leave them out of the equilibrium express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s)         2HI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[HI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oncentration of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[HI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1676520"/>
            <a:ext cx="915840" cy="382320"/>
            <a:chOff x="3505320" y="1676520"/>
            <a:chExt cx="915840" cy="382320"/>
          </a:xfrm>
        </p:grpSpPr>
        <p:sp>
          <p:nvSpPr>
            <p:cNvPr id="149" name=""/>
            <p:cNvSpPr/>
            <p:nvPr/>
          </p:nvSpPr>
          <p:spPr>
            <a:xfrm>
              <a:off x="3505320" y="16765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0" y="96"/>
                  </a:moveTo>
                  <a:lnTo>
                    <a:pt x="576" y="96"/>
                  </a:lnTo>
                  <a:lnTo>
                    <a:pt x="43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5320" y="1905120"/>
              <a:ext cx="915840" cy="153720"/>
            </a:xfrm>
            <a:custGeom>
              <a:avLst/>
              <a:gdLst/>
              <a:ahLst/>
              <a:rect l="l" t="t" r="r" b="b"/>
              <a:pathLst>
                <a:path w="577" h="97">
                  <a:moveTo>
                    <a:pt x="57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23880" y="2971800"/>
            <a:ext cx="175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5410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 are reversib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+ B        C + D ( forward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+ D        A + B (revers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itially there is only A and B so only the forward reaction is possi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C and D build up, the reverse reaction speeds up while the forward reaction slows dow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ventually the rates are eq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905120"/>
            <a:ext cx="7621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514600"/>
            <a:ext cx="76212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Reaction Quotient (Q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lls you the directing the reaction will go to reach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d the same as the equilibrium constant, but for a system not 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 =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[Products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Reactants]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coeffic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value to equilibrium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Q tells 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K&gt;Q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t enough produc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 to righ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K&lt;Q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o many produc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 to lef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Q=K  system is at equilibriu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NOCl(g)         2NO(g)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1.55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 at 35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n experiment  0.10 mol NOCl, 0.0010 mol NO(g) and 0.00010 mol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mixed in 2.0 L flask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ich direction will the reaction proceed to reach equilibrium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8120" y="2286000"/>
            <a:ext cx="839520" cy="458640"/>
            <a:chOff x="3048120" y="2286000"/>
            <a:chExt cx="839520" cy="458640"/>
          </a:xfrm>
        </p:grpSpPr>
        <p:sp>
          <p:nvSpPr>
            <p:cNvPr id="160" name=""/>
            <p:cNvSpPr/>
            <p:nvPr/>
          </p:nvSpPr>
          <p:spPr>
            <a:xfrm>
              <a:off x="3048120" y="2286000"/>
              <a:ext cx="83952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8120" y="2590920"/>
              <a:ext cx="83952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olving Equilibrium Proble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iven the starting concentrations and one equilibrium concentr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stoichiometry to figure out other concentrations and K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ider the following reaction at 600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2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 certain experiment 2.00 mol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1.50 mol of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3.00 mol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ere placed in a 1.00 L flask. At equilibrium 3.50 mol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ere found to be present. Calculat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quilibrium concentrations of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343400" y="1828800"/>
            <a:ext cx="839880" cy="458640"/>
            <a:chOff x="4343400" y="1828800"/>
            <a:chExt cx="839880" cy="458640"/>
          </a:xfrm>
        </p:grpSpPr>
        <p:sp>
          <p:nvSpPr>
            <p:cNvPr id="166" name=""/>
            <p:cNvSpPr/>
            <p:nvPr/>
          </p:nvSpPr>
          <p:spPr>
            <a:xfrm>
              <a:off x="4343400" y="182880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13372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sider the same reaction at 600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 different experiment .500 mol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.350 mol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were placed in a 1.000 L container. When the system reaches equilibrium 0.045 mol of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prese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 the final concentrations of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K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891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f you’re not given an equilibrium concentration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4858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ize of K will determine what approach to tak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rst let’s look at the case of a LARGE value of K ( &gt;100)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lows us to make simplifying assump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2HI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7.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t 25º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 the equilibrium concentrations  if a 5.00 L container initially contains 15.9 g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94 g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(15.7g/2.02)/5.00 L = 1.56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(294g/253.8)/5.00L = 0.23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I]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1676520"/>
            <a:ext cx="839520" cy="458640"/>
            <a:chOff x="3733920" y="1676520"/>
            <a:chExt cx="839520" cy="458640"/>
          </a:xfrm>
        </p:grpSpPr>
        <p:sp>
          <p:nvSpPr>
            <p:cNvPr id="174" name=""/>
            <p:cNvSpPr/>
            <p:nvPr/>
          </p:nvSpPr>
          <p:spPr>
            <a:xfrm>
              <a:off x="3733920" y="1676520"/>
              <a:ext cx="83952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1981080"/>
              <a:ext cx="83952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Q= 0, which is &lt;K so more product will be form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ume that since K is large, then the reaction will go to comple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t up table of initial, final and equilibrium in concentra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29286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ing to stoichiometry we can fi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 i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56M -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 in HI =  twice change i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nge in HI = 0 +2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762120"/>
            <a:ext cx="792468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HI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initi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56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32 M       0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chang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+2X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quil.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762120"/>
            <a:ext cx="7086600" cy="495288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143360" y="2514960"/>
            <a:ext cx="4038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5715000"/>
            <a:ext cx="57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601992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-2667240"/>
            <a:ext cx="112770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414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343400"/>
            <a:ext cx="1447920" cy="0"/>
          </a:xfrm>
          <a:prstGeom prst="line">
            <a:avLst/>
          </a:prstGeom>
          <a:ln w="414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343400"/>
            <a:ext cx="10667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7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76"/>
              </a:path>
            </a:pathLst>
          </a:custGeom>
          <a:noFill/>
          <a:ln cap="rnd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1600200"/>
            <a:ext cx="358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Forward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952880"/>
            <a:ext cx="3581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Arial"/>
              </a:rPr>
              <a:t>Revers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895480" y="4724280"/>
            <a:ext cx="1067040" cy="457200"/>
          </a:xfrm>
          <a:prstGeom prst="line">
            <a:avLst/>
          </a:prstGeom>
          <a:ln w="25560">
            <a:solidFill>
              <a:srgbClr val="e844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057400"/>
            <a:ext cx="380880" cy="5335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733920"/>
            <a:ext cx="2514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520" y="297180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w plug these values into the equilibrium expr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 (2X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7.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1.56-X)(0.232-X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76212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          HI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initial      1.56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32 M       0 M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change    -X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+2X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qui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1.56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.232-X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+2X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648320"/>
            <a:ext cx="2971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001000" cy="30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solve for X we get 0.23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e can find the other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.328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 = 0.464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2ClO(g) K = 1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 experiment 0.100 mol ClO, 1.00 mol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0.0100 mo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mixed in a 4.00 L fl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reaction is not at equilibrium, which way will it shi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equilibrium concent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19920" y="1676520"/>
            <a:ext cx="839520" cy="458640"/>
            <a:chOff x="6019920" y="1676520"/>
            <a:chExt cx="839520" cy="458640"/>
          </a:xfrm>
        </p:grpSpPr>
        <p:sp>
          <p:nvSpPr>
            <p:cNvPr id="186" name=""/>
            <p:cNvSpPr/>
            <p:nvPr/>
          </p:nvSpPr>
          <p:spPr>
            <a:xfrm>
              <a:off x="6019920" y="1676520"/>
              <a:ext cx="83952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1981080"/>
              <a:ext cx="83952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NOCl          2NO +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= 1.6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1.20 mol NOCl, 0.45 mol of NO and 0.87 mol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mixed in a 1 L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equilibrium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= [NO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  = (0.45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0.87) = 0.15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[NOCl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(1.20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14800" y="2133720"/>
            <a:ext cx="839880" cy="458640"/>
            <a:chOff x="4114800" y="2133720"/>
            <a:chExt cx="839880" cy="458640"/>
          </a:xfrm>
        </p:grpSpPr>
        <p:sp>
          <p:nvSpPr>
            <p:cNvPr id="191" name=""/>
            <p:cNvSpPr/>
            <p:nvPr/>
          </p:nvSpPr>
          <p:spPr>
            <a:xfrm>
              <a:off x="4114800" y="213372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243828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28800" y="556272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556272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685800"/>
            <a:ext cx="7772400" cy="30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0.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351756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685800"/>
            <a:ext cx="777240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0.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0.45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0.87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3352680"/>
            <a:ext cx="7924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w we can write equilibrium constan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(.45 + 2X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0.87 + X)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1.20 – 2X)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 1.6E-5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685800"/>
            <a:ext cx="777240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0.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20-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0.45+2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0.87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4572000"/>
            <a:ext cx="4191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 Proble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eact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ClO(g)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g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= 6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an experiment 0.100 mol ClO(g), 1.00 mol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1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l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mixed in a 4.00 L contai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equilibrium concentr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29000" y="2209680"/>
            <a:ext cx="839880" cy="458640"/>
            <a:chOff x="3429000" y="2209680"/>
            <a:chExt cx="839880" cy="458640"/>
          </a:xfrm>
        </p:grpSpPr>
        <p:sp>
          <p:nvSpPr>
            <p:cNvPr id="205" name=""/>
            <p:cNvSpPr/>
            <p:nvPr/>
          </p:nvSpPr>
          <p:spPr>
            <a:xfrm>
              <a:off x="3429000" y="2209680"/>
              <a:ext cx="839880" cy="15372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528" y="96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9000" y="2514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52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g)         2 HI(g)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=38.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s the equilibrium concentrations if 1.800 mol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1.600 mol 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2.600 mol HI are mixed in a 2.000 L container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1828800"/>
            <a:ext cx="839880" cy="306360"/>
            <a:chOff x="3657600" y="1828800"/>
            <a:chExt cx="839880" cy="306360"/>
          </a:xfrm>
        </p:grpSpPr>
        <p:sp>
          <p:nvSpPr>
            <p:cNvPr id="210" name=""/>
            <p:cNvSpPr/>
            <p:nvPr/>
          </p:nvSpPr>
          <p:spPr>
            <a:xfrm>
              <a:off x="3657600" y="1828800"/>
              <a:ext cx="83988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0" y="48"/>
                  </a:moveTo>
                  <a:lnTo>
                    <a:pt x="528" y="48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7600" y="2057400"/>
              <a:ext cx="83988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blems Involving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lved exactly the same, with same rules for choosing X depending on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         2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.131 atm. What are the equilibrium pressures if a flask initially contains 1.000 atm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791320" y="2819520"/>
            <a:ext cx="839520" cy="306360"/>
            <a:chOff x="5791320" y="2819520"/>
            <a:chExt cx="839520" cy="306360"/>
          </a:xfrm>
        </p:grpSpPr>
        <p:sp>
          <p:nvSpPr>
            <p:cNvPr id="215" name=""/>
            <p:cNvSpPr/>
            <p:nvPr/>
          </p:nvSpPr>
          <p:spPr>
            <a:xfrm>
              <a:off x="5791320" y="2819520"/>
              <a:ext cx="83952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0" y="48"/>
                  </a:moveTo>
                  <a:lnTo>
                    <a:pt x="528" y="48"/>
                  </a:lnTo>
                  <a:lnTo>
                    <a:pt x="38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1320" y="3048120"/>
              <a:ext cx="839520" cy="7776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0"/>
                  </a:moveTo>
                  <a:lnTo>
                    <a:pt x="0" y="0"/>
                  </a:lnTo>
                  <a:lnTo>
                    <a:pt x="144" y="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equal at  Equilibrium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tes are equ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entrations are no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tes are determined by concentrations and activation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concentrations do not change at equilibriu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 if the reaction is very slow, no significant change will occu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 Chatelier’s Princi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a stress is applied to a system at equilibrium, the position of the equilibrium will shift to reduce the stres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 Types of str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387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amounts of reactants and/or produc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9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ng product makes K&l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ving reactant makes K&l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ing reactant makes K&g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moving product makes K&gt;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termine the effect on Q, will tell you the direction of shif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7040" y="213372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528" y="96"/>
                </a:moveTo>
                <a:lnTo>
                  <a:pt x="0" y="96"/>
                </a:lnTo>
                <a:lnTo>
                  <a:pt x="192" y="0"/>
                </a:lnTo>
                <a:lnTo>
                  <a:pt x="192" y="192"/>
                </a:lnTo>
                <a:lnTo>
                  <a:pt x="0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77040" y="274320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528" y="96"/>
                </a:moveTo>
                <a:lnTo>
                  <a:pt x="0" y="96"/>
                </a:lnTo>
                <a:lnTo>
                  <a:pt x="192" y="0"/>
                </a:lnTo>
                <a:lnTo>
                  <a:pt x="192" y="192"/>
                </a:lnTo>
                <a:lnTo>
                  <a:pt x="0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7040" y="342900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0" y="96"/>
                </a:moveTo>
                <a:lnTo>
                  <a:pt x="528" y="96"/>
                </a:lnTo>
                <a:lnTo>
                  <a:pt x="336" y="192"/>
                </a:lnTo>
                <a:lnTo>
                  <a:pt x="336" y="0"/>
                </a:lnTo>
                <a:lnTo>
                  <a:pt x="528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7040" y="4038480"/>
            <a:ext cx="839880" cy="306360"/>
          </a:xfrm>
          <a:custGeom>
            <a:avLst/>
            <a:gdLst/>
            <a:ahLst/>
            <a:rect l="l" t="t" r="r" b="b"/>
            <a:pathLst>
              <a:path w="529" h="193">
                <a:moveTo>
                  <a:pt x="0" y="96"/>
                </a:moveTo>
                <a:lnTo>
                  <a:pt x="528" y="96"/>
                </a:lnTo>
                <a:lnTo>
                  <a:pt x="336" y="192"/>
                </a:lnTo>
                <a:lnTo>
                  <a:pt x="336" y="0"/>
                </a:lnTo>
                <a:lnTo>
                  <a:pt x="528" y="9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y changing volu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stem will move in the direction that has the least moles of g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ause partial pressures (and concentrations) change a new equilibrium must be reach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ystem tries to minimize the moles of g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in Press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y adding an inert g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rtial pressures of reactants and product are not chang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 effect on equilibrium posi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nge in Tempera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ffects the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rat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f both the forward and reverse reac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n’t just change the equilibrium position, changes the equilibrium consta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direction of the shift depends on whether it is exo- or endothermi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othermic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&lt;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leases he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nk of heat as a produ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ising temperature push toward reactan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s to lef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&gt;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es he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nk of heat as a react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aising temperature push toward produc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hifts to r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aw of Mass Ac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any rea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A + bB          cC + d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=  [C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PRODUCTS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pow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[A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REACTANTS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spcAft>
                <a:spcPts val="374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 is called the equilibrium consta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spcAft>
                <a:spcPts val="374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how we indicate a reversible rea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35268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90920" y="2362320"/>
            <a:ext cx="838080" cy="380520"/>
            <a:chOff x="2590920" y="2362320"/>
            <a:chExt cx="838080" cy="380520"/>
          </a:xfrm>
        </p:grpSpPr>
        <p:grpSp>
          <p:nvGrpSpPr>
            <p:cNvPr id="70" name=""/>
            <p:cNvGrpSpPr/>
            <p:nvPr/>
          </p:nvGrpSpPr>
          <p:grpSpPr>
            <a:xfrm>
              <a:off x="2590920" y="2362320"/>
              <a:ext cx="838080" cy="152280"/>
              <a:chOff x="2590920" y="2362320"/>
              <a:chExt cx="838080" cy="152280"/>
            </a:xfrm>
          </p:grpSpPr>
          <p:sp>
            <p:nvSpPr>
              <p:cNvPr id="71" name=""/>
              <p:cNvSpPr/>
              <p:nvPr/>
            </p:nvSpPr>
            <p:spPr>
              <a:xfrm>
                <a:off x="2590920" y="251460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00400" y="2362320"/>
                <a:ext cx="22824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590920" y="2590560"/>
              <a:ext cx="838080" cy="152280"/>
              <a:chOff x="2590920" y="2590560"/>
              <a:chExt cx="838080" cy="1522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2590920" y="259092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2590920" y="2590560"/>
                <a:ext cx="22824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3581280" y="3352680"/>
            <a:ext cx="3733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94920" y="4876920"/>
            <a:ext cx="838800" cy="380520"/>
            <a:chOff x="1294920" y="4876920"/>
            <a:chExt cx="838800" cy="380520"/>
          </a:xfrm>
        </p:grpSpPr>
        <p:grpSp>
          <p:nvGrpSpPr>
            <p:cNvPr id="78" name=""/>
            <p:cNvGrpSpPr/>
            <p:nvPr/>
          </p:nvGrpSpPr>
          <p:grpSpPr>
            <a:xfrm>
              <a:off x="1295280" y="4876920"/>
              <a:ext cx="838440" cy="152280"/>
              <a:chOff x="1295280" y="4876920"/>
              <a:chExt cx="838440" cy="152280"/>
            </a:xfrm>
          </p:grpSpPr>
          <p:sp>
            <p:nvSpPr>
              <p:cNvPr id="79" name=""/>
              <p:cNvSpPr/>
              <p:nvPr/>
            </p:nvSpPr>
            <p:spPr>
              <a:xfrm>
                <a:off x="1295280" y="502920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05120" y="487692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294920" y="5105160"/>
              <a:ext cx="838440" cy="152280"/>
              <a:chOff x="1294920" y="5105160"/>
              <a:chExt cx="838440" cy="15228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1294920" y="510552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294920" y="510516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we write the reaction in revers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         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n the new equilibrium constant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spcAft>
                <a:spcPts val="425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 [A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= 1/K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19160" y="2438280"/>
            <a:ext cx="838440" cy="380520"/>
            <a:chOff x="2819160" y="2438280"/>
            <a:chExt cx="838440" cy="380520"/>
          </a:xfrm>
        </p:grpSpPr>
        <p:grpSp>
          <p:nvGrpSpPr>
            <p:cNvPr id="87" name=""/>
            <p:cNvGrpSpPr/>
            <p:nvPr/>
          </p:nvGrpSpPr>
          <p:grpSpPr>
            <a:xfrm>
              <a:off x="2819520" y="2438280"/>
              <a:ext cx="838080" cy="152280"/>
              <a:chOff x="2819520" y="2438280"/>
              <a:chExt cx="838080" cy="152280"/>
            </a:xfrm>
          </p:grpSpPr>
          <p:sp>
            <p:nvSpPr>
              <p:cNvPr id="88" name=""/>
              <p:cNvSpPr/>
              <p:nvPr/>
            </p:nvSpPr>
            <p:spPr>
              <a:xfrm>
                <a:off x="2819520" y="259056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29000" y="243828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819160" y="2666520"/>
              <a:ext cx="838440" cy="152280"/>
              <a:chOff x="2819160" y="2666520"/>
              <a:chExt cx="838440" cy="15228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2819520" y="2666880"/>
                <a:ext cx="83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2819160" y="2666520"/>
                <a:ext cx="22860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1981080" y="42670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with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we multiply the equation by a const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         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n the equilibrium constant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36000">
                <a:solidFill>
                  <a:srgbClr val="ffffff"/>
                </a:solidFill>
                <a:latin typeface="Arial"/>
              </a:rPr>
              <a:t>K’ 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[A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b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 baseline="-36000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([A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B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 baseline="-36000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i="1" lang="en-US" sz="4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d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[D]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352320" y="2895480"/>
            <a:ext cx="838800" cy="381240"/>
            <a:chOff x="3352320" y="2895480"/>
            <a:chExt cx="838800" cy="381240"/>
          </a:xfrm>
        </p:grpSpPr>
        <p:grpSp>
          <p:nvGrpSpPr>
            <p:cNvPr id="97" name=""/>
            <p:cNvGrpSpPr/>
            <p:nvPr/>
          </p:nvGrpSpPr>
          <p:grpSpPr>
            <a:xfrm>
              <a:off x="3352680" y="2895480"/>
              <a:ext cx="838440" cy="152640"/>
              <a:chOff x="3352680" y="2895480"/>
              <a:chExt cx="838440" cy="152640"/>
            </a:xfrm>
          </p:grpSpPr>
          <p:sp>
            <p:nvSpPr>
              <p:cNvPr id="98" name=""/>
              <p:cNvSpPr/>
              <p:nvPr/>
            </p:nvSpPr>
            <p:spPr>
              <a:xfrm>
                <a:off x="3352680" y="304812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62520" y="2895480"/>
                <a:ext cx="22860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352320" y="3124080"/>
              <a:ext cx="838440" cy="152640"/>
              <a:chOff x="3352320" y="3124080"/>
              <a:chExt cx="838440" cy="15264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3352320" y="312408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52320" y="3124080"/>
                <a:ext cx="228600" cy="152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1828800" y="4876920"/>
            <a:ext cx="1828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4876920"/>
            <a:ext cx="2209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dding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have two equations which we are adding to get a resulting equ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need to multiply the K from each equ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X K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(sum of equations 1 +2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units for 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e determined by the various powers  and units of concentra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y depend on the reac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8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ll usually cancel out to leave no uni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15T19:16:12Z</dcterms:created>
  <dc:creator>Thomas V. Green Jr.</dc:creator>
  <dc:description/>
  <cp:keywords/>
  <dc:language>en-US</dc:language>
  <cp:lastModifiedBy>FPS</cp:lastModifiedBy>
  <dcterms:modified xsi:type="dcterms:W3CDTF">2007-01-11T17:49:42Z</dcterms:modified>
  <cp:revision>14</cp:revision>
  <dc:subject/>
  <dc:title>Equilibrium</dc:title>
</cp:coreProperties>
</file>